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CD6-E977-4348-8787-AD27A595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862-CA6C-4F59-B880-4CF7BF60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1E9-FECC-4C60-8DC5-E7A8C0F1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9BA-FA2A-47FD-8EA1-01B1068B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2C91-96C3-4263-A5F5-C7C321F8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D8C3-3729-4D3D-B3C8-66CCF982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9327-02E1-4920-8DF4-A870D492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A42F-E31F-44E6-B296-16C5BEB5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5172-AC90-4C7D-B151-EE7BC3A1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5614-2DED-4A11-B916-915F8D79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3223-8105-47AD-813B-00F58BA3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C177-85E3-4489-AF89-B1DBE26A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3501-C90E-4ED6-ABA5-07F28F43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ED89-61B3-4092-A753-0182D44A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F0D0-92E0-4363-99A5-01138940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CD41-CD1A-4442-A633-0E0DEF22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E0C6-DF90-4769-9EA8-9A84FC4F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1433D-B36E-4315-9FCC-06B2CEA3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157D8-DCA6-4FBB-BFC7-5F0F61F3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5F6F9-1FCC-4220-AABE-1B00A142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2DA92-3D55-4D62-AED5-75BBD580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D33F7-38C0-4949-84D8-BC7A4850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7E3-AFD2-4B60-B860-F484D300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DE8A9-999F-4432-90B0-3B206460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3EE11-B1F2-4A97-B70C-5FBB336C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F1350-69B0-4AF6-AF03-F9725F23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82B26-409A-409F-A89B-969D75A8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A1B9A-9BCA-4EDF-872A-53F4BBCD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8A75B-5B66-4D85-B21A-C055EDEB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A5525-4BD0-4A89-B29E-4E3CC908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5DDE4-F012-4A9F-AD7F-5DC20685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47803-A6C8-4386-BAC8-93DD7F25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B38CE-0D61-4CA3-982A-AEE749F9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42F-CA90-4DC3-9BE9-76313F1E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D0FA1-DC02-443E-A756-31963862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0A286-4E07-4B77-9394-02524A9A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47D05-D030-448F-9915-913784CF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4655B-493C-4131-9413-26DCFB69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B16E1-B32F-48FD-80A7-984DDB5F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5C738-D4EA-4A4C-817D-671C8A43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1BCD4-FECD-47D4-843C-7E48F19E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CB25A-D461-4455-8BBE-B36E6F7C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448CE-9D91-47EB-9E4A-660DECB6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65412A-076D-44A5-8F70-7EC2B8F2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DAA-0953-4B48-B16C-8B46B564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B3BD43-5642-476C-9955-12217BFA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3EE3BB-65E6-4A7E-8C22-4859707D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4B51BF-4B18-410F-B44F-00672DFB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F15453-4EFF-4C21-A108-12009347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3823F0-D3B2-4084-9F17-6622F9DE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026330-DD79-4542-BEC1-C99815D9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552E81-B5F6-4662-BDC2-D7F22E3E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3C41F4-C44C-470D-8A32-69AC70BF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471D20-687D-412E-93EB-36389E6C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D2585F-38AB-407A-8159-7E8F8C07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153-825A-401A-AC20-59F30345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192646-2CF0-48C5-995D-2B5CC590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FBD51-3754-4D27-A3C7-E0C0B15B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C35DE-FB1E-45A6-9356-D49C58DC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CE877-7717-4D19-9B8C-EEEF4647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62C39-64C0-484B-AD66-78551F3A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B15BB-8706-41F3-A89D-D4E47D8C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3A0AE-24E1-470C-A012-45274CAB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165CB-91FC-40BC-AC5D-3A283D44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BC165-BADD-4A34-B847-29133ECA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A70DA-BA1A-47AD-9EEA-AA3BCF30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E8A-12A4-4D1E-9108-6FC026F7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7AD65-54DD-4916-A017-F8ED462F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8B1F2-D108-423C-BD9D-E3E0BE89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8A9C4-BDB6-40CB-8BB4-B19949C3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AC82-168E-4573-80AC-D1A510B5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7CA-8C74-4746-ABCD-A4788D5F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97EF-3D9A-472A-B35E-E8297CCB26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F304-B776-4A69-9D56-3DA8F85B8D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B931-8D61-4A29-9065-EBF89EDE33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0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A70E-E18B-4563-9AD3-EA9B983B36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292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2042-5A5E-43E0-B7B7-F07734C470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549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D118-0A87-4CE5-B28D-9D49B5EA5B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2666880" y="9907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ff"/>
                </a:solidFill>
                <a:latin typeface="Arial"/>
              </a:rPr>
              <a:t>Las Comida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429000" y="4114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Abbie Kan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ara el Desayuno</a:t>
            </a:r>
            <a:br>
              <a:rPr sz="4000"/>
            </a:br>
            <a:r>
              <a:rPr b="0" lang="en-US" sz="1800" spc="-1" strike="noStrike">
                <a:solidFill>
                  <a:srgbClr val="f7d47d"/>
                </a:solidFill>
                <a:latin typeface="Arial"/>
              </a:rPr>
              <a:t>Me gusta comer y beber: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1822680" cy="194292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0" y="327672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Los Panqueques de Choco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2971800" y="1600200"/>
            <a:ext cx="2076480" cy="138276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3200400" y="32004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El Tocin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5715000" y="1447920"/>
            <a:ext cx="1828800" cy="157932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5715000" y="3124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Los Hueve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1828800" cy="175716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0" y="56386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El Zumo de Naranj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ara el Almuerzo</a:t>
            </a:r>
            <a:br>
              <a:rPr sz="4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e gusta comer y beber: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1247760" cy="182880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0" y="3124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arrones con ques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2819520" y="1523880"/>
            <a:ext cx="1904760" cy="14274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3048120" y="3040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sandi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3"/>
          <a:stretch/>
        </p:blipFill>
        <p:spPr>
          <a:xfrm>
            <a:off x="5715000" y="1523880"/>
            <a:ext cx="2209680" cy="141624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594360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bocadill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4"/>
          <a:stretch/>
        </p:blipFill>
        <p:spPr>
          <a:xfrm>
            <a:off x="228600" y="3733920"/>
            <a:ext cx="1752480" cy="156024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45720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limonad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 el Cena</a:t>
            </a:r>
            <a:br>
              <a:rPr sz="4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Me gusta comer y beber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1981080" cy="155088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228600" y="3048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biftec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>
            <a:off x="2743200" y="1447920"/>
            <a:ext cx="1828800" cy="141264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2743200" y="2971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arroz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2924280" cy="156204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5638680" y="3048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ensalad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4"/>
          <a:stretch/>
        </p:blipFill>
        <p:spPr>
          <a:xfrm>
            <a:off x="228600" y="3581280"/>
            <a:ext cx="1905120" cy="177012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304920" y="5410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6:48:25Z</dcterms:created>
  <dc:creator>kaneabi</dc:creator>
  <dc:description/>
  <dc:language>en-US</dc:language>
  <cp:lastModifiedBy>kaneabi</cp:lastModifiedBy>
  <dcterms:modified xsi:type="dcterms:W3CDTF">2012-04-05T17:12:36Z</dcterms:modified>
  <cp:revision>8</cp:revision>
  <dc:subject/>
  <dc:title>Slide 1</dc:title>
</cp:coreProperties>
</file>